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8D27-FEA9-432C-8B78-90F13BFBB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05C7-3491-4A3F-AEA2-813699F7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A08D-F7F0-46DD-A16D-0878CE934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B2B6-B08C-4A8B-AF2D-175B341F5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2685-8822-4DA2-9455-F8701C76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1DB6-1B81-4011-B5B5-2D233FBC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6EE3-DE99-4B08-87D0-F3C23046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68D8-F7B9-480D-8E87-DE513B07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28F1-046A-40A8-9FF5-E888A041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0E57-9F49-495B-BEF5-903BE2F4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63C8-AEA4-45BE-AED7-1609677F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E4AC-9846-47F9-8DCC-22D034C3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E98A-F583-4BB4-8F51-47C623947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8720" y="1653840"/>
            <a:ext cx="78994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ty of a Contin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3800" y="4029120"/>
            <a:ext cx="4683240" cy="20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Case Study: Afr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An Appeal to MA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680160" y="4057560"/>
            <a:ext cx="347976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938844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22040" y="158400"/>
            <a:ext cx="79786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65280" y="2250720"/>
            <a:ext cx="9083520" cy="49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92929"/>
                </a:solidFill>
                <a:latin typeface="Arial"/>
              </a:rPr>
              <a:t>In this project, students assume the role of regional geographers traveling an assigned area of Africa. As a member of a fact-finding investigative team, they will collect and present data and pertinent information to support their proposal that geographical features affect the living standards and quality of life throughout Africa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92929"/>
                </a:solidFill>
                <a:latin typeface="Arial"/>
              </a:rPr>
              <a:t>The students will present their findings to a non-profit organization, Making A Perfect Society (MAPS). Their findings and recommendations will be used by MAPS to help determine the need for cultural improvements for that regi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22040" y="158400"/>
            <a:ext cx="79786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Summary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41480" y="2251080"/>
            <a:ext cx="8539200" cy="26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92929"/>
                </a:solidFill>
                <a:latin typeface="Arial"/>
              </a:rPr>
              <a:t>Student representatives are appointed to fact-finding committees to research the historical development as well as current issues that contribute to Africa’s poverty levels. They are to develop a proposal for addressing the problem, using supportive multimedia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613640" y="5114880"/>
            <a:ext cx="254628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22040" y="158400"/>
            <a:ext cx="79786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iculum Framing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041480" y="2251080"/>
            <a:ext cx="85392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292929"/>
                </a:solidFill>
                <a:latin typeface="Arial"/>
              </a:rPr>
              <a:t>Essential Ques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Why is geography important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292929"/>
                </a:solidFill>
                <a:latin typeface="Arial"/>
              </a:rPr>
              <a:t>Unit Question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How does </a:t>
            </a:r>
            <a:r>
              <a:rPr b="1" lang="en-US" sz="2700" spc="-1" strike="noStrike">
                <a:solidFill>
                  <a:srgbClr val="292929"/>
                </a:solidFill>
                <a:latin typeface="Arial"/>
              </a:rPr>
              <a:t>where</a:t>
            </a: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 people live impact </a:t>
            </a:r>
            <a:r>
              <a:rPr b="1" lang="en-US" sz="2700" spc="-1" strike="noStrike">
                <a:solidFill>
                  <a:srgbClr val="292929"/>
                </a:solidFill>
                <a:latin typeface="Arial"/>
              </a:rPr>
              <a:t>how</a:t>
            </a: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 they liv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What are the key obstacles affecting the development of Africa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What suggestions can be offered to improve the future of life in Africa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22040" y="158400"/>
            <a:ext cx="79786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Summary Continu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02960" y="2251080"/>
            <a:ext cx="85374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292929"/>
                </a:solidFill>
                <a:latin typeface="Arial"/>
              </a:rPr>
              <a:t>Content Questi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What physical characteristics describe your region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How does the demographics of your region influence the standard of living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What physical and cultural resources influence the development of the region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Which past or current issues in your region affect the global economy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22040" y="158400"/>
            <a:ext cx="79786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ty of a Conti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41480" y="2251080"/>
            <a:ext cx="85392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This project will help my students develop 21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t</a:t>
            </a: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 Century skills by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Collaborating with pe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Analyzing data and offering solutions for Africa’s problems with pover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Communicating through blogs, virtual postcard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Self-directed learning through researc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Critical thinking – offering solutions for relief of Africa’s pressing issu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Creativity – postcards, photosto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22040" y="158400"/>
            <a:ext cx="79786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uging Student Needs Assess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79240" y="1913040"/>
            <a:ext cx="9001080" cy="54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29"/>
                </a:solidFill>
                <a:latin typeface="Arial"/>
              </a:rPr>
              <a:t>Purpose of the Assess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To gauge what students already know about the continent of Africa and the problems faced by the people living ther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29"/>
                </a:solidFill>
                <a:latin typeface="Arial"/>
              </a:rPr>
              <a:t>What I want to learn from my stud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Do students have an understanding of obstacles faced throughout Africa and how they impact the quality of life. To see what misconceptions students may have about Afric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29"/>
                </a:solidFill>
                <a:latin typeface="Arial"/>
              </a:rPr>
              <a:t>How I have tried to promote higher- order thinking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The questions target issues that students will research. They will use higher-order thinking and 21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t</a:t>
            </a: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 century skills to analyze and develop solutions for these issu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22040" y="158400"/>
            <a:ext cx="79786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uging Student Needs Assessment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1480" y="2251080"/>
            <a:ext cx="8539200" cy="31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29"/>
                </a:solidFill>
                <a:latin typeface="Arial"/>
              </a:rPr>
              <a:t>How the assessment information helps me and my students plan for upcoming activities in the unit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29"/>
                </a:solidFill>
                <a:latin typeface="Arial"/>
              </a:rPr>
              <a:t>Teacher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29"/>
                </a:solidFill>
                <a:latin typeface="Arial"/>
              </a:rPr>
              <a:t>Helps to determine topics of stud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29"/>
                </a:solidFill>
                <a:latin typeface="Arial"/>
              </a:rPr>
              <a:t>Helps with placement of student work group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29"/>
                </a:solidFill>
                <a:latin typeface="Arial"/>
              </a:rPr>
              <a:t>Student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92929"/>
                </a:solidFill>
                <a:latin typeface="Arial"/>
              </a:rPr>
              <a:t>Basis of inquiry and inter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22040" y="158400"/>
            <a:ext cx="79786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 for the U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02960" y="1742760"/>
            <a:ext cx="8537400" cy="49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Develop student understanding of current African cultur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Understanding the local obstacles of life in Africa and how these obstacles translate to the world commun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Expand and refine the technology skills of the stud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Develop student’s higher level of thinking skills as they look for solutions and make recommendat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Cultivate in students a need for global awareness and involve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